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8564-0605-41D2-B0B0-0E15FB6F6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495C-9666-4D1E-A853-189D07AAB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EFFE-729D-47E6-BC37-039E846DE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465-47D0-4D85-9ACE-B266EB8E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414-49BF-42EB-8828-A76A9D86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CD3-CABE-4AD5-8E7D-0FE9399C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00D-7305-4F1B-89D3-0897F511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70A-D0DE-408C-8115-9C65402B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CFE-04B1-4CFC-8E69-451AE63A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DAC-948C-4FDB-A2B1-F1102B95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196-33E1-4E15-A909-AF2EBC68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F300-DA38-4EE3-B8E1-534C03E1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920-4813-4D60-AB19-37E5A8C9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410-C459-49B4-A59D-64F1ACD6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107-4EE6-4DBA-A4D9-0B04A166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DDF1-17F2-4E84-9785-99E09DEE6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farm3.static.flickr.com/2386/2145079381_bf78526077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Russian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6151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Declan, Amanda and Raym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249000_big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Falling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viet Union fell in 1991. Since then, Russia has been trying to rebuild their econo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crisis in 19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ain oil company’s CEO was arrested in 200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k banking system and poor economic growth also contribute to the failing econo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249000_big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1240" y="167652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ssia has many natural resources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, nickel, coal, petroleum, copper, fish, bauxite, iron ore, lead, tin, and zin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2009, Russia was the world’s leading exporter of g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…forest contains a lot of timber for the Russians to use for building and other important u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Kaliningrad-Russ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Port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ussia has many port cities such as Kaliningrad, St. Petersburg, Murmansk and Vladivost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se Port Cities are important because they increase the opportunity of trade with other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cause of these Port Cities, Russian’s are allowed to get the goods they need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663248248_8236c31a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Port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23880"/>
            <a:ext cx="40402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Kaliningrad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a Baltic port in north-west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o connection to other Russian territo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jor manufacturing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ce-fre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Vladivostok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uth-eastern port in Rus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nly ice-free port in mainland Rus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iggest ocean port on Pacific coast in Rus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jor industries are fishing and engineer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4720" y="1447560"/>
            <a:ext cx="40417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urmansk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on the Kola Peninsu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orlds largest port located behind polar cir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st northern non-freezing port in Rus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. Petersburg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jor sea port at the east end of the gulf of Fin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dustries include: shipbuilding, engineering, electronics and chemic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main city in Russian fed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One of the most important to servic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During the financial crisis in 1998, Russian tourism f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Lots of cultural sites in Moscow and St. Petersbu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Too much paper work, expensive prices and lack of local marketing limits what tourists can se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22:06:37Z</dcterms:created>
  <dc:creator>Michelle</dc:creator>
  <dc:description/>
  <dc:language>en-US</dc:language>
  <cp:lastModifiedBy>Amanda</cp:lastModifiedBy>
  <dcterms:modified xsi:type="dcterms:W3CDTF">2010-12-18T15:58:30Z</dcterms:modified>
  <cp:revision>26</cp:revision>
  <dc:subject/>
  <dc:title>Russia Economy</dc:title>
</cp:coreProperties>
</file>